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05A-3BD5-4443-ACA8-1945575F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EEA-7D1D-47BC-9F3F-56BB16CA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0D7-8316-45D9-99A6-9B0A55AE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FD2-3117-4DBD-80B0-99101E68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705-DD04-4B55-8DBE-5E09FD0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9D1-421C-47F2-B87C-209E1EDB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3EE-5CC8-4741-A80F-288A5396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27F-10BD-4F89-B040-529B094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6B4-D370-4C05-B687-C4E6AF21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B10-3A2C-448A-91DA-00DAD23C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DFE-BADB-4B15-AC73-B44C46B0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952-8B15-4A9E-B5E5-FC187881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AF93-4918-43E0-B276-A414632F7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pa%20Bacias%20CEAs%20atual" descr=""/>
          <p:cNvPicPr/>
          <p:nvPr/>
        </p:nvPicPr>
        <p:blipFill>
          <a:blip r:embed="rId1"/>
          <a:stretch/>
        </p:blipFill>
        <p:spPr>
          <a:xfrm>
            <a:off x="-1219320" y="-511200"/>
            <a:ext cx="11049120" cy="75153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913360" y="18253080"/>
            <a:ext cx="3124440" cy="1406520"/>
            <a:chOff x="5913360" y="18253080"/>
            <a:chExt cx="3124440" cy="1406520"/>
          </a:xfrm>
        </p:grpSpPr>
        <p:sp>
          <p:nvSpPr>
            <p:cNvPr id="43" name=""/>
            <p:cNvSpPr/>
            <p:nvPr/>
          </p:nvSpPr>
          <p:spPr>
            <a:xfrm>
              <a:off x="5913360" y="18253080"/>
              <a:ext cx="679680" cy="603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913360" y="19056600"/>
              <a:ext cx="679680" cy="603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61080" y="18253080"/>
              <a:ext cx="23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ntros de Educação Ambi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61080" y="19056600"/>
              <a:ext cx="23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úcleos Regionais de Educação Ambi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154320" y="23545800"/>
            <a:ext cx="3584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8520" rIns="488520" tIns="244440" bIns="244440" anchor="t">
            <a:noAutofit/>
          </a:bodyPr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" spc="-1" strike="noStrike">
                <a:solidFill>
                  <a:srgbClr val="000000"/>
                </a:solidFill>
                <a:latin typeface="Arial"/>
              </a:rPr>
              <a:t>Mapa Adaptado de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" spc="-1" strike="noStrike">
                <a:solidFill>
                  <a:srgbClr val="000000"/>
                </a:solidFill>
                <a:latin typeface="Arial"/>
              </a:rPr>
              <a:t>Sistema Integrado de Gerenciamento de Recursos Hídricos do Estado de São Paulo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" spc="-1" strike="noStrike">
                <a:solidFill>
                  <a:srgbClr val="000000"/>
                </a:solidFill>
                <a:latin typeface="Arial"/>
              </a:rPr>
              <a:t>Relatório de Situação dos Recursos Hídricos do Estado de São Paulo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" spc="-1" strike="noStrike" u="sng">
                <a:solidFill>
                  <a:srgbClr val="3333cc"/>
                </a:solidFill>
                <a:uFillTx/>
                <a:latin typeface="Arial"/>
              </a:rPr>
              <a:t>http://www.sigrh.sp.gov.br/sigrh/basecon/r0estadual/images/mapa02.pdf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417680" y="0"/>
            <a:ext cx="1197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8520" rIns="488520" tIns="212760" bIns="21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PA CENTROS DE EDUCAÇÃO AMBIENTAL DO ESTADO DE SÃO PAULO POR BACIAS HIDROGRÁF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876920"/>
            <a:ext cx="390600" cy="212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135400"/>
            <a:ext cx="390600" cy="19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80060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5105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R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990720" y="5562720"/>
            <a:ext cx="19814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21:44:09Z</dcterms:created>
  <dc:creator>LEPA</dc:creator>
  <dc:description/>
  <dc:language>en-US</dc:language>
  <cp:lastModifiedBy>LEPA</cp:lastModifiedBy>
  <dcterms:modified xsi:type="dcterms:W3CDTF">2003-07-23T21:44:59Z</dcterms:modified>
  <cp:revision>2</cp:revision>
  <dc:subject/>
  <dc:title>Apresentação do PowerPoint</dc:title>
</cp:coreProperties>
</file>