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CA84-8302-4B54-975D-84ECB4641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3303-DBFA-41B1-99AF-EFAD5BD1B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B6BE-94A3-4906-87E1-24852774D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18FD-1BA0-469A-9C4F-7DD5E7940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8490-5E2F-4B2D-BC5F-49600DECC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7BCA-698F-49C6-95A9-8AC74C9F2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2C2D-7147-45C9-8716-9A8517CF6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9486-D6DC-48A5-B4C3-BF6E47AD4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26C7-0C1A-4F85-9352-B5F305591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C63B-88FA-4D0F-92CE-6A64CCEE5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7DF5-6EC5-4E84-BC8A-787992E57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95AA-FD87-4E24-BD4E-1FF505758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5244C-F076-468D-B86B-BD7D36F228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Verdana"/>
              </a:rPr>
              <a:t>I Encontro Paulista de Centros de Educação Ambiental (EPCEA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1905120"/>
            <a:ext cx="80773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Fábio Deboni da Sil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fdsilva@esalq.usp.b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Facilitador Rede C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OCA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ESALQ/U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oca" descr=""/>
          <p:cNvPicPr/>
          <p:nvPr/>
        </p:nvPicPr>
        <p:blipFill>
          <a:blip r:embed="rId2"/>
          <a:stretch/>
        </p:blipFill>
        <p:spPr>
          <a:xfrm>
            <a:off x="990720" y="4191120"/>
            <a:ext cx="3733560" cy="1677960"/>
          </a:xfrm>
          <a:prstGeom prst="rect">
            <a:avLst/>
          </a:prstGeom>
          <a:ln w="0">
            <a:noFill/>
          </a:ln>
        </p:spPr>
      </p:pic>
      <p:pic>
        <p:nvPicPr>
          <p:cNvPr id="44" name="Redeceas%20logo" descr=""/>
          <p:cNvPicPr/>
          <p:nvPr/>
        </p:nvPicPr>
        <p:blipFill>
          <a:blip r:embed="rId3"/>
          <a:stretch/>
        </p:blipFill>
        <p:spPr>
          <a:xfrm>
            <a:off x="5638680" y="3733920"/>
            <a:ext cx="26672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Verdana"/>
              </a:rPr>
              <a:t>Fases Históricas dos CEAs no Brasi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000000"/>
                </a:solidFill>
                <a:uFillTx/>
                <a:latin typeface="Verdana"/>
              </a:rPr>
              <a:t>Fase Fundacional</a:t>
            </a: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 (1976 – 198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Iniciativas “pioneiras” pré 80’ – públ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(UFRGS; IF – </a:t>
            </a: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SP - PEIC; Zoo de Sorocaba</a:t>
            </a: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Bissetorial (Iniciativas Públicas e Privad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Concepção conservacionista de 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Parecer 226/97 do ME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Verdana"/>
              </a:rPr>
              <a:t>Fases Históricas dos CEAs no Brasi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Fase da “Oficialização”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(1988 - 199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ocumentos oficiais – ME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cepção de CEA: “extensão” da escola (foco no ensino formal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EAs – IBAMA (1992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 Encontro Nacional dos CEAs (1992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Projetos Pilotos de CEAs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(MEC, 1993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Verdana"/>
              </a:rPr>
              <a:t>Fases Históricas dos CEAs no Brasi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3) </a:t>
            </a:r>
            <a:r>
              <a:rPr b="1" lang="pt-BR" sz="2800" spc="-1" strike="noStrike" u="sng">
                <a:solidFill>
                  <a:srgbClr val="000000"/>
                </a:solidFill>
                <a:uFillTx/>
                <a:latin typeface="Verdana"/>
              </a:rPr>
              <a:t>Fase da Efetivação”</a:t>
            </a: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 (1993 - 199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Explosão” de CEAs pelo paí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Multissetorialis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Governo Federal perde protagonis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Formação de Redes de 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PRONEA – 7 linhas de 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0" lang="pt-BR" sz="2800" spc="-1" strike="noStrike" baseline="30000">
                <a:solidFill>
                  <a:srgbClr val="000000"/>
                </a:solidFill>
                <a:latin typeface="Verdana"/>
              </a:rPr>
              <a:t>a</a:t>
            </a: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 – Criação de uma Rede de Centros Especializados em EA – CEA N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Verdana"/>
              </a:rPr>
              <a:t>Fases Históricas dos CEAs no Brasi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4)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Fase Atual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(1998 - 200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versidade de “tipos” de C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rência de estudos sobre a temátic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uco intercâmbio entre C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cessidade de reconhecim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mação da Rede CE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atureza institucional</a:t>
            </a:r>
            <a:br>
              <a:rPr sz="43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Diversidade de instituições tem </a:t>
            </a:r>
            <a:r>
              <a:rPr b="1" lang="pt-BR" sz="3000" spc="-1" strike="noStrike">
                <a:solidFill>
                  <a:srgbClr val="000000"/>
                </a:solidFill>
                <a:latin typeface="Verdana"/>
              </a:rPr>
              <a:t>promovido </a:t>
            </a: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e </a:t>
            </a:r>
            <a:r>
              <a:rPr b="1" lang="pt-BR" sz="3000" spc="-1" strike="noStrike">
                <a:solidFill>
                  <a:srgbClr val="000000"/>
                </a:solidFill>
                <a:latin typeface="Verdana"/>
              </a:rPr>
              <a:t>gerido</a:t>
            </a: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 CEAs (empresas, universidades, fundações, ongs, prefeituras, órgãos públicos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Instituições: Promotoras &amp; Gestor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 “</a:t>
            </a: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Empresas </a:t>
            </a:r>
            <a:r>
              <a:rPr b="1" lang="pt-BR" sz="3000" spc="-1" strike="noStrike">
                <a:solidFill>
                  <a:srgbClr val="000000"/>
                </a:solidFill>
                <a:latin typeface="Verdana"/>
              </a:rPr>
              <a:t>são</a:t>
            </a: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 CEAs ou podem </a:t>
            </a:r>
            <a:r>
              <a:rPr b="1" lang="pt-BR" sz="3000" spc="-1" strike="noStrike">
                <a:solidFill>
                  <a:srgbClr val="000000"/>
                </a:solidFill>
                <a:latin typeface="Verdana"/>
              </a:rPr>
              <a:t>ter</a:t>
            </a: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 CEAs?”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0773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Funções e Características dos CE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form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m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rpret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icul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biliz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nsibilização/Reflexão crí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squi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aráter Demonstrativo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potenci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aráter de Referência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re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EAs no Bras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Cenário diverso e complex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Diversas denominações (</a:t>
            </a: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Centros</a:t>
            </a: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: Ambientais; de Referência em EA; de Meio Ambiente; de Des. Amb.; de Visitantes; de Pesquisa Amb., etc; </a:t>
            </a: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Núcleos</a:t>
            </a: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: de EA; de Meio Ambiente, outr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Movimento Singular e Plu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(CEAs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 identidade própr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EAs : panorama atual (BR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Explosão de iniciativas (Multissetoriai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Mal distribuídas pelo paí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Há um padrão de distribuição dos CEAs no Brasil?” “Segue o de desenvolvimento?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Diversidade de CEAs (museus, zoos, jd. Botânicos, parques (Nac., Estad., Munic.), pequenas propriedades rurais, urban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Carência de informações, de estudos, pesquisas sobre a temátic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352520" y="380880"/>
            <a:ext cx="627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EAs : panorama atual (SP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1676520"/>
            <a:ext cx="79246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49 NR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49 C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Bacias / Regiões do Est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14400" y="3505320"/>
            <a:ext cx="716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3581280"/>
            <a:ext cx="8229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( - )                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( +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Norte/Noroeste                                      PC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Oeste 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       AltoTiet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Mantiqueira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 Par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Médio Tiet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838080" y="14479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APA CEAs - 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Uma Concepção de C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3581280"/>
            <a:ext cx="182880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E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1905120" y="2819520"/>
            <a:ext cx="11430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352680" y="2209680"/>
            <a:ext cx="5791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Espaços, Equipamentos e Entorn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362320" y="41148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380988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quipe Educa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4648320"/>
            <a:ext cx="9907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971800" y="4876920"/>
            <a:ext cx="548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rojeto Político Pedagóg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ede Brasileira de CEAs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(Rede CEA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ltura de redes” (Facilitação/Animação, Hospedagem, horizontalidade, participaçã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Objetivos da Rede CE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mover intercâmbio de informações, experiências, discussões, sobre os CEA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imular o debate inerente à temática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ribuir para divulgar os CEAs junto aos educadores ambientais e aos demais setores da socieda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Rede CE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Dificuldades atua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falta de ver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Desconhecimen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Formas de participação na Rede (we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Desafi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Influenciar formulação de Pol. Publ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Formas de articulação de CEAs tão distintos e tão dist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Promover debates (Questão Conceitual de CE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Divulgação da Rede C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Constituição de Redes Estaduais e Region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Verdana"/>
              </a:rPr>
              <a:t>Rede CE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Verdana"/>
              </a:rPr>
              <a:t>Próximos Participaçõ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Verdana"/>
              </a:rPr>
              <a:t>10 e 11 de setembro – Encontro dos CEAs do Estado do R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Verdana"/>
              </a:rPr>
              <a:t>16, 17 e 18 de setembro – Encontro Nacional dos CEAs (ENCEA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Verdana"/>
              </a:rPr>
              <a:t>7 a 10 de dezembro – II Simpósio Sul Brasileiro de 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www.redeceas.esalq.usp.br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Redeceas%20logo" descr=""/>
          <p:cNvPicPr/>
          <p:nvPr/>
        </p:nvPicPr>
        <p:blipFill>
          <a:blip r:embed="rId1"/>
          <a:stretch/>
        </p:blipFill>
        <p:spPr>
          <a:xfrm>
            <a:off x="2209680" y="1295280"/>
            <a:ext cx="48769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01" descr=""/>
          <p:cNvPicPr/>
          <p:nvPr/>
        </p:nvPicPr>
        <p:blipFill>
          <a:blip r:embed="rId1"/>
          <a:stretch/>
        </p:blipFill>
        <p:spPr>
          <a:xfrm>
            <a:off x="318960" y="700200"/>
            <a:ext cx="8506080" cy="54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02" descr=""/>
          <p:cNvPicPr/>
          <p:nvPr/>
        </p:nvPicPr>
        <p:blipFill>
          <a:blip r:embed="rId1"/>
          <a:stretch/>
        </p:blipFill>
        <p:spPr>
          <a:xfrm>
            <a:off x="2057400" y="457200"/>
            <a:ext cx="4886280" cy="59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03" descr=""/>
          <p:cNvPicPr/>
          <p:nvPr/>
        </p:nvPicPr>
        <p:blipFill>
          <a:blip r:embed="rId1"/>
          <a:stretch/>
        </p:blipFill>
        <p:spPr>
          <a:xfrm>
            <a:off x="1014480" y="1081080"/>
            <a:ext cx="711504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04" descr=""/>
          <p:cNvPicPr/>
          <p:nvPr/>
        </p:nvPicPr>
        <p:blipFill>
          <a:blip r:embed="rId1"/>
          <a:stretch/>
        </p:blipFill>
        <p:spPr>
          <a:xfrm>
            <a:off x="1004760" y="1128600"/>
            <a:ext cx="7134480" cy="46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05" descr=""/>
          <p:cNvPicPr/>
          <p:nvPr/>
        </p:nvPicPr>
        <p:blipFill>
          <a:blip r:embed="rId1"/>
          <a:stretch/>
        </p:blipFill>
        <p:spPr>
          <a:xfrm>
            <a:off x="914400" y="380880"/>
            <a:ext cx="71629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06" descr=""/>
          <p:cNvPicPr/>
          <p:nvPr/>
        </p:nvPicPr>
        <p:blipFill>
          <a:blip r:embed="rId1"/>
          <a:stretch/>
        </p:blipFill>
        <p:spPr>
          <a:xfrm>
            <a:off x="3352680" y="380880"/>
            <a:ext cx="5191200" cy="2600280"/>
          </a:xfrm>
          <a:prstGeom prst="rect">
            <a:avLst/>
          </a:prstGeom>
          <a:ln w="0">
            <a:noFill/>
          </a:ln>
        </p:spPr>
      </p:pic>
      <p:pic>
        <p:nvPicPr>
          <p:cNvPr id="109" name="Foto%2009" descr=""/>
          <p:cNvPicPr/>
          <p:nvPr/>
        </p:nvPicPr>
        <p:blipFill>
          <a:blip r:embed="rId2"/>
          <a:stretch/>
        </p:blipFill>
        <p:spPr>
          <a:xfrm>
            <a:off x="609480" y="3124080"/>
            <a:ext cx="594360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spaços, Equipamentos e Entor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Espaç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971800" y="1600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343400" y="12952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1752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2209680"/>
            <a:ext cx="8534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Verdana"/>
              </a:rPr>
              <a:t>Outros: viveiro, mirante, quiosque, ponte, trilhas, composteira, minhocário, instalações p/ animais, museu, parq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4038480"/>
            <a:ext cx="7924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pt-BR" sz="3200" spc="-1" strike="noStrike" u="sng">
                <a:solidFill>
                  <a:srgbClr val="000000"/>
                </a:solidFill>
                <a:uFillTx/>
                <a:latin typeface="Verdana"/>
              </a:rPr>
              <a:t>Equipamentos:</a:t>
            </a:r>
            <a:r>
              <a:rPr b="0" lang="pt-BR" sz="3200" spc="-1" strike="noStrike">
                <a:solidFill>
                  <a:srgbClr val="000000"/>
                </a:solidFill>
                <a:latin typeface="Verdana"/>
              </a:rPr>
              <a:t>  retroprojetor, projetor de slides, maquetes, jogos  binóculos, materiais de apoio, de divulgação, informativos, equipamentos de segurança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Foto%2001" descr=""/>
          <p:cNvPicPr/>
          <p:nvPr/>
        </p:nvPicPr>
        <p:blipFill>
          <a:blip r:embed="rId1"/>
          <a:stretch/>
        </p:blipFill>
        <p:spPr>
          <a:xfrm>
            <a:off x="762120" y="816120"/>
            <a:ext cx="7772400" cy="53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Foto%2007" descr=""/>
          <p:cNvPicPr/>
          <p:nvPr/>
        </p:nvPicPr>
        <p:blipFill>
          <a:blip r:embed="rId1"/>
          <a:stretch/>
        </p:blipFill>
        <p:spPr>
          <a:xfrm>
            <a:off x="533520" y="611280"/>
            <a:ext cx="8229600" cy="55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Entorn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Áreas Naturais/Rurais – cachoeiras, rios, córregos, lagos, montanhas, matas, etc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Áreas Urbanas – indústrias, vilas, bairros, parques, zoo, jardim botânico, etc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Áreas degradadas podem ser “utilizadas” como recurso pedagógic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(por ex.: um rio poluído ou uma pedreir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Equipe Educativ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1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Quantas pessoas são necessárias para “tocar” um CEA” 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Para responder preciso saber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Objetivo do CE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Espaços, Equipamentos e Recursos disponívei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Projeto Político Pedagógic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Euquipe”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Multidisciplinaridad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Formas de gestão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Número médio de pessoas – 4 a 5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Equipe Educati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Alguns requisitos desejáve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ertura ao no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tura dialóg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extualizar informações, problemas e conhecime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-construção do conhecimento em vez de transmiss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ojeto Político Pedagógico (PPP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ítico – intencionalidade política na EA (Não Neutralida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dagógico – questão educacional, processo de ensino-aprendizagem, form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É possível construir conhecimentos a partir da ação dos CEAs?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s CEAs ensinam algo a alguém? “Como o fazem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ojeto Político Pedagógico (PPP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lo menos 50 % dos CEAs não têm PP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PP é mais do que um documento que traz informações sobre o C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É um processo de permanente construção do CEA, a partir da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práx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cepções bastante variadas do que vem a ser um PP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ojeto Político Pedagógico (PPP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1</a:t>
            </a:r>
            <a:r>
              <a:rPr b="1" lang="en-US" sz="2800" spc="-1" strike="noStrike" u="sng" baseline="30000">
                <a:solidFill>
                  <a:srgbClr val="000000"/>
                </a:solidFill>
                <a:uFillTx/>
                <a:latin typeface="Verdana"/>
              </a:rPr>
              <a:t>o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 passo para se implementar um CEA: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P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 a nossa concepção de CE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 que queremos com ele? Para onde queremos caminhar? A quem se destin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is os princípios nortearão o CE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 quais recursos, pessoas e condições poderemos conta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o iremos avaliar esse processo? Seremos nós quem o faremos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20:57:11Z</dcterms:created>
  <dc:creator>Windows</dc:creator>
  <dc:description/>
  <dc:language>en-US</dc:language>
  <cp:lastModifiedBy>USER</cp:lastModifiedBy>
  <dcterms:modified xsi:type="dcterms:W3CDTF">2003-07-24T02:00:23Z</dcterms:modified>
  <cp:revision>50</cp:revision>
  <dc:subject/>
  <dc:title>Centros de Educação Ambiental CEAs</dc:title>
</cp:coreProperties>
</file>